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7968-4C93-4E79-B655-42A441250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63BB-86CF-4380-9331-2DDD807A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C40D-52BD-4CF7-A618-8394EE35F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7156-04A7-41D6-A698-0D9A3D861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EC45-8A57-43FA-82E0-D50F4E58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469D-3AFE-4901-9A88-78A0D395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2561-52B7-4956-BBE3-E1083D68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B8F6-18F5-4E3E-BB3C-26E39267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2B64-C9AF-4B09-91D6-ECB7D5E8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FC38-E317-472D-ACA7-84FD5A43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D1AC-4C1B-4F68-AD11-59111CF3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E766-9681-42BC-B99A-CB6786DF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E442-13A6-4B5B-85F9-5B2CC7238CCC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Masterclass</a:t>
            </a: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De marketing van biologische productie en retail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581000"/>
            <a:ext cx="640080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Verwoorden &amp; Verwaarden m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898989"/>
                </a:solidFill>
                <a:latin typeface="Calibri"/>
              </a:rPr>
              <a:t>Balancerend Marketing bele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Biologisch produceren is 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werken aan meerwaar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Up-stream tot down-stream in de ke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maginatieproces, doordenken, doorvoelen doorwil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mmunicatie is gericht op doorgronden van proces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emancipatie van de cons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Balancerend Marketingbeleid vraagt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eflectie op bestaande situ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isie op wat je beweeg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ten wat je te ontwikkelen heb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antwoordelijk willen zijn voor persoonlijke ontwikk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rioriteiten stellen op basis van vis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Zichtbaar zijn in communica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woorden en verwaar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67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t als resultaa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800" spc="-1" strike="noStrike">
                <a:solidFill>
                  <a:srgbClr val="000000"/>
                </a:solidFill>
                <a:latin typeface="Calibri"/>
              </a:rPr>
              <a:t>De consumenten premie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800" spc="-1" strike="noStrike">
                <a:solidFill>
                  <a:srgbClr val="000000"/>
                </a:solidFill>
                <a:latin typeface="Calibri"/>
              </a:rPr>
              <a:t>in de prij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Line 2"/>
          <p:cNvSpPr/>
          <p:nvPr/>
        </p:nvSpPr>
        <p:spPr>
          <a:xfrm>
            <a:off x="2819520" y="1447920"/>
            <a:ext cx="0" cy="3733560"/>
          </a:xfrm>
          <a:prstGeom prst="line">
            <a:avLst/>
          </a:prstGeom>
          <a:ln w="50760">
            <a:solidFill>
              <a:srgbClr val="00008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3"/>
          <p:cNvSpPr/>
          <p:nvPr/>
        </p:nvSpPr>
        <p:spPr>
          <a:xfrm>
            <a:off x="4343400" y="3275280"/>
            <a:ext cx="3733920" cy="288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09480" y="2209680"/>
            <a:ext cx="192276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ontact met wat je te doen staat, met je ideaal of vis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c0504d"/>
                </a:solidFill>
                <a:latin typeface="Calibri"/>
              </a:rPr>
              <a:t>Openhart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c0504d"/>
                </a:solidFill>
                <a:latin typeface="Calibri"/>
              </a:rPr>
              <a:t>Priorit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c0504d"/>
                </a:solidFill>
                <a:latin typeface="Calibri"/>
              </a:rPr>
              <a:t>Ac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4800600" y="3657600"/>
            <a:ext cx="2233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ontact met je omgeving, de a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ed181e"/>
                </a:solidFill>
                <a:latin typeface="Calibri"/>
              </a:rPr>
              <a:t>Aanda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ed181e"/>
                </a:solidFill>
                <a:latin typeface="Calibri"/>
              </a:rPr>
              <a:t>Resp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ed181e"/>
                </a:solidFill>
                <a:latin typeface="Calibri"/>
              </a:rPr>
              <a:t>Inte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6"/>
          <p:cNvSpPr/>
          <p:nvPr/>
        </p:nvSpPr>
        <p:spPr>
          <a:xfrm>
            <a:off x="2590920" y="2590920"/>
            <a:ext cx="2133360" cy="1447560"/>
          </a:xfrm>
          <a:prstGeom prst="ellipse">
            <a:avLst/>
          </a:prstGeom>
          <a:noFill/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771640" y="30481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Balancerend Marketingbe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 rot="5400000">
            <a:off x="1676520" y="2054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0504d"/>
                </a:solidFill>
                <a:latin typeface="Calibri"/>
              </a:rPr>
              <a:t>Vi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4876920" y="25909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ed181e"/>
                </a:solidFill>
                <a:latin typeface="Calibri"/>
              </a:rPr>
              <a:t>Verb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 flipV="1">
            <a:off x="3657600" y="885240"/>
            <a:ext cx="2524320" cy="2090160"/>
          </a:xfrm>
          <a:prstGeom prst="line">
            <a:avLst/>
          </a:prstGeom>
          <a:ln w="50760">
            <a:solidFill>
              <a:srgbClr val="3366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6477120" y="762120"/>
            <a:ext cx="19810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6876e7"/>
                </a:solidFill>
                <a:latin typeface="Calibri"/>
              </a:rPr>
              <a:t>Bewust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zorgt voor ba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1:10:56Z</dcterms:created>
  <dc:creator>Ruijte01</dc:creator>
  <dc:description/>
  <dc:language>en-US</dc:language>
  <cp:lastModifiedBy>schuri01</cp:lastModifiedBy>
  <dcterms:modified xsi:type="dcterms:W3CDTF">2011-07-11T11:13:31Z</dcterms:modified>
  <cp:revision>5</cp:revision>
  <dc:subject/>
  <dc:title>Masterclass Verwoorden &amp; Verwaarden</dc:title>
</cp:coreProperties>
</file>